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Chapter" id="0">
      <p:sldLst>
        <p:sld r:id="rId18"/>
        <p:sld r:id="rId5"/>
        <p:sld r:id="rId6"/>
        <p:sld r:id="rId7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  <p:custShow name="ELI Sect 4" id="2">
      <p:sldLst>
        <p:sld r:id="rId5"/>
        <p:sld r:id="rId6"/>
        <p:sld r:id="rId7"/>
      </p:sldLst>
    </p:custShow>
    <p:custShow name="ELI STP" id="3">
      <p:sldLst>
        <p:sld r:id="rId8"/>
        <p:sld r:id="rId10"/>
        <p:sld r:id="rId13"/>
        <p:sld r:id="rId16"/>
        <p:sld r:id="rId17"/>
      </p:sldLst>
    </p:custShow>
    <p:custShow name="Image/Math" id="4">
      <p:sldLst>
        <p:sld r:id="rId14"/>
        <p:sld r:id="rId3"/>
      </p:sldLst>
    </p:custShow>
    <p:custShow name="Transparencies" id="5">
      <p:sldLst>
        <p:sld r:id="rId3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ock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54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ing Absolute Ag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400"/>
            <a:ext cx="83833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olute Dating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metric D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active Decay and Half-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alf-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alf-lif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determined that the time required for half of any amount of a particular radioactive isotope to decay is always the same and can be determined for any isot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alf-Lif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mparing the amounts of parent and daughter isotopes in a rock sample, scientists can determine the age of the sam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reater the percentage of daughter isotopes present in the sample, the older the rock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275600" cy="4124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active Decay and Half-Lif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oactive Isoto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ranium-238, or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3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, is an isotope of uranium that has an extremely long half-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is most useful for dating geologic samples that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re than 10 million years 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tassium-40, or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, has a half-life of 1.25 billion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is used to date rock that are between 50,000 and 4.6 billion years o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oactive Isotop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bidium-87 has a half-life of about 49 billion years, and is used to verify the age of rocks previously dated by using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bon Da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nger rock layers may be dated indirectly by dating organic material found within the r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can be determined by using a method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bon-14 d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diocarbon d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rbon Da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have both the carbon-12 and carbon-14 isot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the age of a sample of organic material, scientists compare the ratio of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t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and then compare this with the ratio of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t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known to exist in a living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ce a plant or animal dies, the ratio begins to change, and scientist can determine the age from the difference between the ratios of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to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 in the dead org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mitations of using the rates of erosion and deposition to determine the absolute age of rock form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ation of va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process of radioactive decay can be used to determine the absolute age of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solute 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 a variety of ways to determine absolute age, or the numeric age, of a rock 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bsolute Dating Method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tes of Ero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scientists use to estimate absolute age is to study rates of erosion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ing the rates of erosion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actical only for geologic features that formed within the past 10,000 to 20,000 yea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older surface features, the method is less dependable because rates of erosion can vary over millions of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bsolute Dating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tes of Depos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can also estimate absolute age by *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using data collected over a long period of time, geologists can estimate the average rates of deposition for common sedimentary r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od is not always accurate because not all sediment is deposited at an average; therefore it provides only an estimate of absolute 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bsolute Dating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rve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ar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edimentary  deposits show definite annual layers, called va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arves can be counted much like tree rings to determine the age of the sedimentary depos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bsolute Dating Metho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re varves like tree ring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Varves are like tree rings in that varves are laid down each year. Thus, counting varves can reveal the age of sedimentary depos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ometric da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cks generally contain small amounts of radioactive material that can act as natural cl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oto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dioactive isotop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n be used to determine 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adiometric Dat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active isotopes have nuclei that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 the natural breakdown of isotopes to accurately measure the absolute age of rock, which is called radiometric d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o this, scientists measure the concentration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rent isot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original isotope, and of the newly form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ughter isotopes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n, using the known decay rate, they can determine the absolute age of the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17T17:12:42Z</dcterms:modified>
  <cp:revision>691</cp:revision>
  <dc:subject/>
  <dc:title>No Slide Title</dc:title>
</cp:coreProperties>
</file>